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DCA5-4299-4E85-A6E2-F298F5050E7A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906C-8D92-481B-B766-A0E99DB1C366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E8A-ECBE-4D92-84FD-C14F4A16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BA6-3699-40A6-860B-253183A0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66B-C1B8-4240-8866-BD330D9B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79F-A5C1-498F-B0CB-72CCC736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44B-5F12-4B72-9602-1DD90D19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9F6-67B7-464D-A45F-6B7A81B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9E9-2067-4684-8811-4ECFE103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F7D-5D03-4CB3-877D-3F2DA1D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B67-69B0-4175-9F55-369CEC36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AC05-55D6-44D0-825A-FBDDEF93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4C0-6989-40F8-9AFD-8F94C65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E33-69AD-4543-9EE1-41FE9152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6BC8-2613-403F-8871-2DF247BB827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1"/>
          <p:cNvSpPr/>
          <p:nvPr/>
        </p:nvSpPr>
        <p:spPr>
          <a:xfrm>
            <a:off x="3933720" y="2085840"/>
            <a:ext cx="2124360" cy="1229040"/>
          </a:xfrm>
          <a:prstGeom prst="plus">
            <a:avLst>
              <a:gd name="adj" fmla="val 18282"/>
            </a:avLst>
          </a:prstGeom>
          <a:gradFill rotWithShape="0">
            <a:gsLst>
              <a:gs pos="0">
                <a:srgbClr val="c0504d"/>
              </a:gs>
              <a:gs pos="100000">
                <a:srgbClr val="622423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1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 rot="16200000">
            <a:off x="4503600" y="2439720"/>
            <a:ext cx="1076400" cy="4845240"/>
          </a:xfrm>
          <a:prstGeom prst="can">
            <a:avLst>
              <a:gd name="adj" fmla="val 3981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OR EL CUAL SE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GLA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c00000"/>
                </a:solidFill>
                <a:latin typeface="Times New Roman"/>
              </a:rPr>
              <a:t>LA EVALUACIÓN Y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OS ESTUDIANTES DE L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3"/>
          <p:cNvCxnSpPr/>
          <p:nvPr/>
        </p:nvCxnSpPr>
        <p:spPr>
          <a:xfrm>
            <a:off x="3629160" y="1714320"/>
            <a:ext cx="54360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AutoShape 14"/>
          <p:cNvCxnSpPr/>
          <p:nvPr/>
        </p:nvCxnSpPr>
        <p:spPr>
          <a:xfrm>
            <a:off x="5686560" y="1714320"/>
            <a:ext cx="13356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15"/>
          <p:cNvCxnSpPr/>
          <p:nvPr/>
        </p:nvCxnSpPr>
        <p:spPr>
          <a:xfrm>
            <a:off x="3629160" y="1971360"/>
            <a:ext cx="543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16"/>
          <p:cNvCxnSpPr/>
          <p:nvPr/>
        </p:nvCxnSpPr>
        <p:spPr>
          <a:xfrm>
            <a:off x="3333240" y="1971360"/>
            <a:ext cx="60084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17"/>
          <p:cNvCxnSpPr/>
          <p:nvPr/>
        </p:nvCxnSpPr>
        <p:spPr>
          <a:xfrm>
            <a:off x="3333240" y="2933280"/>
            <a:ext cx="60084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AutoShape 18"/>
          <p:cNvCxnSpPr/>
          <p:nvPr/>
        </p:nvCxnSpPr>
        <p:spPr>
          <a:xfrm>
            <a:off x="3629160" y="3219120"/>
            <a:ext cx="54360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AutoShape 19"/>
          <p:cNvCxnSpPr/>
          <p:nvPr/>
        </p:nvCxnSpPr>
        <p:spPr>
          <a:xfrm>
            <a:off x="5962320" y="1971360"/>
            <a:ext cx="961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5"/>
          <p:cNvSpPr/>
          <p:nvPr/>
        </p:nvSpPr>
        <p:spPr>
          <a:xfrm>
            <a:off x="7072200" y="714240"/>
            <a:ext cx="884520" cy="933480"/>
          </a:xfrm>
          <a:prstGeom prst="can">
            <a:avLst>
              <a:gd name="adj" fmla="val 2975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857160" y="1000080"/>
            <a:ext cx="1285920" cy="1219320"/>
          </a:xfrm>
          <a:prstGeom prst="flowChartExtra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4000680" y="1357200"/>
            <a:ext cx="2057400" cy="55908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BERÁN ADOP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2286000" y="2928960"/>
            <a:ext cx="134316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RITE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5651640" y="2852640"/>
            <a:ext cx="151272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3500280" y="4143240"/>
            <a:ext cx="2028960" cy="65412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AR  LA PROMO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571840" y="4929120"/>
            <a:ext cx="3429000" cy="804960"/>
          </a:xfrm>
          <a:prstGeom prst="roundRect">
            <a:avLst>
              <a:gd name="adj" fmla="val 32292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Al grado siguiente de aquellos estudiantes que no la obtuvieron en el año lectivo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6500880" y="3429000"/>
            <a:ext cx="2305080" cy="1028880"/>
          </a:xfrm>
          <a:prstGeom prst="cloudCallout">
            <a:avLst>
              <a:gd name="adj1" fmla="val -34712"/>
              <a:gd name="adj2" fmla="val -95555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Método, sistema adoptado para llegar a un determinado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2214720" y="1428840"/>
            <a:ext cx="1338120" cy="399960"/>
          </a:xfrm>
          <a:prstGeom prst="rightArrow">
            <a:avLst>
              <a:gd name="adj1" fmla="val 50000"/>
              <a:gd name="adj2" fmla="val 83641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3786120" y="2428920"/>
            <a:ext cx="1695600" cy="95256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 rot="2589000">
            <a:off x="2112480" y="3718080"/>
            <a:ext cx="901800" cy="1730160"/>
          </a:xfrm>
          <a:custGeom>
            <a:avLst/>
            <a:gdLst>
              <a:gd name="textAreaLeft" fmla="*/ 120600 w 901800"/>
              <a:gd name="textAreaRight" fmla="*/ 781200 w 901800"/>
              <a:gd name="textAreaTop" fmla="*/ 318600 h 1730160"/>
              <a:gd name="textAreaBottom" fmla="*/ 1174320 h 173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0" stAng="-5400000" swAng="-5400000"/>
                <a:lnTo>
                  <a:pt x="0" y="10680"/>
                </a:lnTo>
                <a:arcTo wR="21600" hR="7960" stAng="10800000" swAng="-2771238"/>
                <a:lnTo>
                  <a:pt x="14400" y="21145"/>
                </a:lnTo>
                <a:lnTo>
                  <a:pt x="21600" y="17280"/>
                </a:lnTo>
                <a:lnTo>
                  <a:pt x="14400" y="12505"/>
                </a:lnTo>
                <a:lnTo>
                  <a:pt x="14400" y="15465"/>
                </a:lnTo>
                <a:arcTo wR="21600" hR="7960" stAng="8028762" swAng="2551855"/>
                <a:lnTo>
                  <a:pt x="318" y="9320"/>
                </a:lnTo>
                <a:arcTo wR="21600" hR="7960" stAng="-10580617" swAng="5180617"/>
                <a:close/>
              </a:path>
              <a:path fill="darkenLess" w="21600" h="21600">
                <a:moveTo>
                  <a:pt x="21600" y="0"/>
                </a:moveTo>
                <a:arcTo wR="21600" hR="7960" stAng="-5400000" swAng="-5400000"/>
                <a:lnTo>
                  <a:pt x="0" y="7960"/>
                </a:lnTo>
                <a:arcTo wR="21600" hR="7960" stAng="10800000" swAng="-219383"/>
                <a:lnTo>
                  <a:pt x="318" y="9320"/>
                </a:lnTo>
                <a:arcTo wR="21600" hR="7960" stAng="-10580617" swAng="5180617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676440" y="609480"/>
            <a:ext cx="2527200" cy="947880"/>
          </a:xfrm>
          <a:prstGeom prst="foldedCorner">
            <a:avLst>
              <a:gd name="adj" fmla="val 33138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CREACIÓN DEL SISTEMA INSTITUCIONAL DE EVALUACIÓN DE LOS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7451640" y="509760"/>
            <a:ext cx="1082880" cy="1118880"/>
          </a:xfrm>
          <a:prstGeom prst="can">
            <a:avLst>
              <a:gd name="adj" fmla="val 33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76440" y="1838160"/>
            <a:ext cx="1190520" cy="667080"/>
          </a:xfrm>
          <a:prstGeom prst="flowChartPunchedCard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943520" y="1790640"/>
            <a:ext cx="3666960" cy="914400"/>
          </a:xfrm>
          <a:prstGeom prst="roundRect">
            <a:avLst>
              <a:gd name="adj" fmla="val 34375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COMO MÍNIM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SEGUIR EL PROCEDIMIENTO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QUE SE MENCIONA A CONTINU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305080" y="2000160"/>
            <a:ext cx="2381400" cy="33336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 flipV="1">
            <a:off x="539640" y="3645000"/>
            <a:ext cx="1273320" cy="4334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c0504d"/>
                </a:solidFill>
                <a:latin typeface="Arial"/>
              </a:rPr>
              <a:t>DEFI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11280" y="4653000"/>
            <a:ext cx="1439640" cy="42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OCIA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755640" y="5661000"/>
            <a:ext cx="129528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2195640" y="3500280"/>
            <a:ext cx="4897440" cy="72072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11" y="0"/>
                </a:lnTo>
                <a:lnTo>
                  <a:pt x="21600" y="10800"/>
                </a:lnTo>
                <a:lnTo>
                  <a:pt x="143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2268360" y="5661000"/>
            <a:ext cx="6062760" cy="720720"/>
          </a:xfrm>
          <a:custGeom>
            <a:avLst/>
            <a:gdLst>
              <a:gd name="textAreaLeft" fmla="*/ 0 w 6062760"/>
              <a:gd name="textAreaRight" fmla="*/ 6063120 w 6062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sesión en el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sejo Directiv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y consignación en el 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2268360" y="4581360"/>
            <a:ext cx="5112000" cy="71928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con la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08360" y="909000"/>
            <a:ext cx="1667160" cy="900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round/>
          </a:ln>
          <a:effectLst>
            <a:outerShdw dist="28496" dir="3825519" blurRad="0" rotWithShape="0">
              <a:srgbClr val="7f7f7f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T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2268360" y="3500280"/>
            <a:ext cx="4607280" cy="720720"/>
          </a:xfrm>
          <a:custGeom>
            <a:avLst/>
            <a:gdLst>
              <a:gd name="textAreaLeft" fmla="*/ 0 w 4607280"/>
              <a:gd name="textAreaRight" fmla="*/ 4607640 w 4607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  a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68360" y="3645000"/>
            <a:ext cx="1359000" cy="504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2268360" y="4365720"/>
            <a:ext cx="6188400" cy="647640"/>
          </a:xfrm>
          <a:custGeom>
            <a:avLst/>
            <a:gdLst>
              <a:gd name="textAreaLeft" fmla="*/ 0 w 6188400"/>
              <a:gd name="textAreaRight" fmla="*/ 6188760 w 6188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procedimientos  y mecanismos d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l Sistema Institucional de Eval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395280" y="4508640"/>
            <a:ext cx="1397160" cy="433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268360" y="5300640"/>
            <a:ext cx="5616720" cy="93672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-97" y="0"/>
                </a:lnTo>
                <a:lnTo>
                  <a:pt x="21600" y="10800"/>
                </a:lnTo>
                <a:lnTo>
                  <a:pt x="-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obre el Sistema de Evaluación a los nuevos estudiantes, padres de familia y docentes que ingresen durante cada perí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539640" y="5445000"/>
            <a:ext cx="136836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FOR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2268360" y="242100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36" y="0"/>
                </a:lnTo>
                <a:lnTo>
                  <a:pt x="21600" y="10800"/>
                </a:lnTo>
                <a:lnTo>
                  <a:pt x="15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el Proyecto Educativo Institucional, articulándolo a las necesidades de los estudiantes, el plan de estudios y el curríc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95280" y="2565360"/>
            <a:ext cx="1584360" cy="5209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1238400" y="318960"/>
            <a:ext cx="2124000" cy="9493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RESPONSABILIDADES DEL M.E.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7524720" y="171360"/>
            <a:ext cx="1143000" cy="947880"/>
          </a:xfrm>
          <a:prstGeom prst="can">
            <a:avLst>
              <a:gd name="adj" fmla="val 3033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38280" y="3814920"/>
            <a:ext cx="1269720" cy="914400"/>
          </a:xfrm>
          <a:custGeom>
            <a:avLst/>
            <a:gdLst>
              <a:gd name="textAreaLeft" fmla="*/ 181800 w 1269720"/>
              <a:gd name="textAreaRight" fmla="*/ 1087920 w 1269720"/>
              <a:gd name="textAreaTop" fmla="*/ 181800 h 914400"/>
              <a:gd name="textAreaBottom" fmla="*/ 732600 h 914400"/>
            </a:gdLst>
            <a:ahLst/>
            <a:rect l="textAreaLeft" t="textAreaTop" r="textAreaRight" b="textAreaBottom"/>
            <a:pathLst>
              <a:path w="29990" h="21600">
                <a:moveTo>
                  <a:pt x="6075" y="0"/>
                </a:moveTo>
                <a:arcTo wR="6075" hR="6075" stAng="0" swAng="5400000"/>
                <a:lnTo>
                  <a:pt x="0" y="15525"/>
                </a:lnTo>
                <a:arcTo wR="6075" hR="6075" stAng="16200000" swAng="5400000"/>
                <a:lnTo>
                  <a:pt x="23915" y="21600"/>
                </a:lnTo>
                <a:arcTo wR="6075" hR="6075" stAng="10800000" swAng="5400000"/>
                <a:lnTo>
                  <a:pt x="29990" y="6075"/>
                </a:lnTo>
                <a:arcTo wR="6075" hR="6075" stAng="5400000" swAng="5400000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. E.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2786040" y="1268280"/>
            <a:ext cx="5746680" cy="129708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PUBLIC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información clara y oportuna sobre los resultados de las pruebas externas tanto internacionales como nacionales, de manera que sean un insumo para la construcción de los sistemas institucionales de evaluación de los estudiantes y el mejoramiento de la calidad de la educ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916360" y="3000240"/>
            <a:ext cx="4508280" cy="644760"/>
          </a:xfrm>
          <a:prstGeom prst="flowChartAlternateProcess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XPEDIR  y  ACTU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orientaciones para la implementación del sistema institucional de evalu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916360" y="4000680"/>
            <a:ext cx="4579920" cy="796680"/>
          </a:xfrm>
          <a:prstGeom prst="flowChartAlternateProcess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  y  ACOMPAÑ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as Secretarías de Educación del país en la implementación del presente decre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2928960" y="5429160"/>
            <a:ext cx="4738680" cy="663840"/>
          </a:xfrm>
          <a:prstGeom prst="flowChartAlternateProcess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VALU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efectividad de los diferentes sistemas institucionales de evaluación de los estudiantes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 rot="16396800">
            <a:off x="2646000" y="3820680"/>
            <a:ext cx="587520" cy="2524320"/>
          </a:xfrm>
          <a:custGeom>
            <a:avLst/>
            <a:gdLst>
              <a:gd name="textAreaLeft" fmla="*/ 78480 w 587520"/>
              <a:gd name="textAreaRight" fmla="*/ 509040 w 587520"/>
              <a:gd name="textAreaTop" fmla="*/ 514440 h 2524320"/>
              <a:gd name="textAreaBottom" fmla="*/ 18543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8" stAng="-5400000" swAng="-5400000"/>
                <a:lnTo>
                  <a:pt x="0" y="11464"/>
                </a:lnTo>
                <a:arcTo wR="21600" hR="8808" stAng="10800000" swAng="-2944338"/>
                <a:lnTo>
                  <a:pt x="14400" y="21096"/>
                </a:lnTo>
                <a:lnTo>
                  <a:pt x="21600" y="18943"/>
                </a:lnTo>
                <a:lnTo>
                  <a:pt x="14400" y="15782"/>
                </a:lnTo>
                <a:lnTo>
                  <a:pt x="14400" y="17111"/>
                </a:lnTo>
                <a:arcTo wR="21600" hR="8808" stAng="7855662" swAng="2730811"/>
                <a:lnTo>
                  <a:pt x="247" y="10136"/>
                </a:lnTo>
                <a:arcTo wR="21600" hR="8808" stAng="-10586473" swAng="5186473"/>
                <a:close/>
              </a:path>
              <a:path fill="darkenLess" w="21600" h="21600">
                <a:moveTo>
                  <a:pt x="21600" y="0"/>
                </a:moveTo>
                <a:arcTo wR="21600" hR="8808" stAng="-5400000" swAng="-5400000"/>
                <a:lnTo>
                  <a:pt x="0" y="8808"/>
                </a:lnTo>
                <a:arcTo wR="21600" hR="8808" stAng="10800000" swAng="-213527"/>
                <a:lnTo>
                  <a:pt x="247" y="10136"/>
                </a:lnTo>
                <a:arcTo wR="21600" hR="8808" stAng="-10586473" swAng="5186473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 rot="17058000">
            <a:off x="2549520" y="3686040"/>
            <a:ext cx="785880" cy="4887720"/>
          </a:xfrm>
          <a:custGeom>
            <a:avLst/>
            <a:gdLst>
              <a:gd name="textAreaLeft" fmla="*/ 105120 w 785880"/>
              <a:gd name="textAreaRight" fmla="*/ 680760 w 785880"/>
              <a:gd name="textAreaTop" fmla="*/ 949320 h 4887720"/>
              <a:gd name="textAreaBottom" fmla="*/ 3575160 h 488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93" stAng="-5400000" swAng="-5400000"/>
                <a:lnTo>
                  <a:pt x="0" y="11602"/>
                </a:lnTo>
                <a:arcTo wR="21600" hR="8393" stAng="10800000" swAng="-2794655"/>
                <a:lnTo>
                  <a:pt x="14145" y="21084"/>
                </a:lnTo>
                <a:lnTo>
                  <a:pt x="21600" y="18391"/>
                </a:lnTo>
                <a:lnTo>
                  <a:pt x="14145" y="14665"/>
                </a:lnTo>
                <a:lnTo>
                  <a:pt x="14145" y="16270"/>
                </a:lnTo>
                <a:arcTo wR="21600" hR="8393" stAng="8005345" swAng="2534987"/>
                <a:lnTo>
                  <a:pt x="398" y="9998"/>
                </a:lnTo>
                <a:arcTo wR="21600" hR="8393" stAng="-10540333" swAng="5140333"/>
                <a:close/>
              </a:path>
              <a:path fill="darkenLess" w="21600" h="21600">
                <a:moveTo>
                  <a:pt x="21600" y="0"/>
                </a:moveTo>
                <a:arcTo wR="21600" hR="8393" stAng="-5400000" swAng="-5400000"/>
                <a:lnTo>
                  <a:pt x="0" y="8393"/>
                </a:lnTo>
                <a:arcTo wR="21600" hR="8393" stAng="10800000" swAng="-259667"/>
                <a:lnTo>
                  <a:pt x="398" y="9998"/>
                </a:lnTo>
                <a:arcTo wR="21600" hR="8393" stAng="-10540333" swAng="5140333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207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 rot="18999000">
            <a:off x="237600" y="1941480"/>
            <a:ext cx="2953080" cy="1046160"/>
          </a:xfrm>
          <a:custGeom>
            <a:avLst/>
            <a:gdLst>
              <a:gd name="textAreaLeft" fmla="*/ 475560 w 2953080"/>
              <a:gd name="textAreaRight" fmla="*/ 1956600 w 2953080"/>
              <a:gd name="textAreaTop" fmla="*/ 140040 h 1046160"/>
              <a:gd name="textAreaBottom" fmla="*/ 90612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0831" y="0"/>
                </a:lnTo>
                <a:arcTo wR="6958" hR="21600" stAng="-5400000" swAng="2540237"/>
                <a:lnTo>
                  <a:pt x="21202" y="14400"/>
                </a:lnTo>
                <a:lnTo>
                  <a:pt x="15853" y="21600"/>
                </a:lnTo>
                <a:lnTo>
                  <a:pt x="9707" y="14400"/>
                </a:lnTo>
                <a:lnTo>
                  <a:pt x="13518" y="14400"/>
                </a:lnTo>
                <a:arcTo wR="6958" hR="21600" stAng="-2859763" swAng="-2220283"/>
                <a:lnTo>
                  <a:pt x="8895" y="853"/>
                </a:lnTo>
                <a:arcTo wR="6958" hR="21600" stAng="-5719954" swAng="-5080046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319954"/>
                <a:lnTo>
                  <a:pt x="8895" y="853"/>
                </a:lnTo>
                <a:arcTo wR="6958" hR="21600" stAng="-5719954" swAng="-5080046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 rot="20155800">
            <a:off x="1320480" y="2922120"/>
            <a:ext cx="2900160" cy="568440"/>
          </a:xfrm>
          <a:custGeom>
            <a:avLst/>
            <a:gdLst>
              <a:gd name="textAreaLeft" fmla="*/ 616320 w 2900160"/>
              <a:gd name="textAreaRight" fmla="*/ 2139120 w 290016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2" hR="21600" stAng="10800000" swAng="5400000"/>
                <a:lnTo>
                  <a:pt x="11340" y="0"/>
                </a:lnTo>
                <a:arcTo wR="9182" hR="21600" stAng="-5400000" swAng="3014872"/>
                <a:lnTo>
                  <a:pt x="21075" y="14400"/>
                </a:lnTo>
                <a:lnTo>
                  <a:pt x="19442" y="21600"/>
                </a:lnTo>
                <a:lnTo>
                  <a:pt x="16759" y="14400"/>
                </a:lnTo>
                <a:lnTo>
                  <a:pt x="17838" y="14400"/>
                </a:lnTo>
                <a:arcTo wR="9182" hR="21600" stAng="-2385128" swAng="-2842091"/>
                <a:lnTo>
                  <a:pt x="10261" y="150"/>
                </a:lnTo>
                <a:arcTo wR="9182" hR="21600" stAng="-5572781" swAng="-5227219"/>
                <a:close/>
              </a:path>
              <a:path fill="darkenLess" w="21600" h="21600">
                <a:moveTo>
                  <a:pt x="0" y="21600"/>
                </a:moveTo>
                <a:arcTo wR="9182" hR="21600" stAng="10800000" swAng="5400000"/>
                <a:lnTo>
                  <a:pt x="9182" y="0"/>
                </a:lnTo>
                <a:arcTo wR="9182" hR="21600" stAng="-5400000" swAng="172781"/>
                <a:lnTo>
                  <a:pt x="10261" y="150"/>
                </a:lnTo>
                <a:arcTo wR="9182" hR="21600" stAng="-5572781" swAng="-5227219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557280" y="647640"/>
            <a:ext cx="2990880" cy="1125720"/>
          </a:xfrm>
          <a:prstGeom prst="foldedCorner">
            <a:avLst>
              <a:gd name="adj" fmla="val 3827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SPONSABILIDADES DE LAS SECRETARÍAS DE EDUCACIÓN DE LAS ENTITIDADES TERRITORIALES CERTIFICADAS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96360" y="538200"/>
            <a:ext cx="1123920" cy="947880"/>
          </a:xfrm>
          <a:prstGeom prst="can">
            <a:avLst>
              <a:gd name="adj" fmla="val 285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95280" y="3533760"/>
            <a:ext cx="1619280" cy="1407960"/>
          </a:xfrm>
          <a:custGeom>
            <a:avLst/>
            <a:gdLst>
              <a:gd name="textAreaLeft" fmla="*/ 300600 w 1619280"/>
              <a:gd name="textAreaRight" fmla="*/ 1318680 w 1619280"/>
              <a:gd name="textAreaTop" fmla="*/ 300600 h 1407960"/>
              <a:gd name="textAreaBottom" fmla="*/ 1107360 h 1407960"/>
            </a:gdLst>
            <a:ahLst/>
            <a:rect l="textAreaLeft" t="textAreaTop" r="textAreaRight" b="textAreaBottom"/>
            <a:pathLst>
              <a:path w="24841" h="21600">
                <a:moveTo>
                  <a:pt x="6525" y="0"/>
                </a:moveTo>
                <a:arcTo wR="6525" hR="6525" stAng="0" swAng="5400000"/>
                <a:lnTo>
                  <a:pt x="0" y="15075"/>
                </a:lnTo>
                <a:arcTo wR="6525" hR="6525" stAng="16200000" swAng="5400000"/>
                <a:lnTo>
                  <a:pt x="18316" y="21600"/>
                </a:lnTo>
                <a:arcTo wR="6525" hR="6525" stAng="10800000" swAng="5400000"/>
                <a:lnTo>
                  <a:pt x="24841" y="6525"/>
                </a:lnTo>
                <a:arcTo wR="6525" hR="6525" stAng="5400000" swAng="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A E. T. CERTIFICADA 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786040" y="1844640"/>
            <a:ext cx="6010200" cy="86364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resultados de las pruebas externas de los establecimientos educativos de su jurisdicción y contrastarlos con los resultados de las evaluaciones de los sistemas institucionales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786040" y="4365720"/>
            <a:ext cx="6010200" cy="87300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rabaj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n equipo con los directivos docentes de los establecimientos educativos de su jurisdicción para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facili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divulgación e implementación de las disposiciones de este decre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2786040" y="3284640"/>
            <a:ext cx="6010200" cy="72072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, acompañar y realizar seguimient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os establecimientos educativos de su jurisdicción en la definición e implementación del sistema institucional de evaluación de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786040" y="5516640"/>
            <a:ext cx="6010200" cy="81756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SOLVER  LAS 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SE PRESENTEN CON RESPECTO A LA MOVILIDAD DE ESTUDIANTES ENTRE ESTABLECIMIENTOS EDUCATIVOS DE SU JURISDI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9"/>
          <p:cNvCxnSpPr/>
          <p:nvPr/>
        </p:nvCxnSpPr>
        <p:spPr>
          <a:xfrm flipV="1">
            <a:off x="2014200" y="2504880"/>
            <a:ext cx="772200" cy="163872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5" name="AutoShape 10"/>
          <p:cNvCxnSpPr/>
          <p:nvPr/>
        </p:nvCxnSpPr>
        <p:spPr>
          <a:xfrm flipV="1">
            <a:off x="2014200" y="3838320"/>
            <a:ext cx="772200" cy="3052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6" name="AutoShape 11"/>
          <p:cNvCxnSpPr/>
          <p:nvPr/>
        </p:nvCxnSpPr>
        <p:spPr>
          <a:xfrm>
            <a:off x="2014200" y="4143240"/>
            <a:ext cx="772200" cy="8200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7" name="AutoShape 12"/>
          <p:cNvCxnSpPr/>
          <p:nvPr/>
        </p:nvCxnSpPr>
        <p:spPr>
          <a:xfrm>
            <a:off x="2014200" y="4142880"/>
            <a:ext cx="772200" cy="191556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000080" y="644400"/>
            <a:ext cx="2995560" cy="839880"/>
          </a:xfrm>
          <a:prstGeom prst="foldedCorner">
            <a:avLst>
              <a:gd name="adj" fmla="val 4143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SPONSABILIDADES DEL ESTABLECIMIENTO EDUCATIVO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7740720" y="592200"/>
            <a:ext cx="936720" cy="957240"/>
          </a:xfrm>
          <a:prstGeom prst="can">
            <a:avLst>
              <a:gd name="adj" fmla="val 2926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16200000">
            <a:off x="4247280" y="-1717920"/>
            <a:ext cx="649440" cy="7200720"/>
          </a:xfrm>
          <a:prstGeom prst="can">
            <a:avLst>
              <a:gd name="adj" fmla="val 6560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FINIR, ADOPTAR Y DIVULG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estudiantes, después de su aprobación por el Consejo Académic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¿Art.8. Numeral 3?)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rot="16200000">
            <a:off x="4234320" y="-552960"/>
            <a:ext cx="865440" cy="6670440"/>
          </a:xfrm>
          <a:prstGeom prst="can">
            <a:avLst>
              <a:gd name="adj" fmla="val 7689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n el Proyecto Educativo Institucional los criterios, procesos y procedimientos de evaluación; estrategias para la superación de debilidades y promoción de los estudiantes, definidos por el Consejo Directivo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 rot="16200000">
            <a:off x="4823640" y="585000"/>
            <a:ext cx="1008000" cy="6696000"/>
          </a:xfrm>
          <a:prstGeom prst="can">
            <a:avLst>
              <a:gd name="adj" fmla="val 8939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de docentes y directivos docentes para ANALIZAR, DISEÑAR e IMPLEMENTAR </a:t>
            </a:r>
            <a:r>
              <a:rPr b="0" i="1" lang="es-CO" sz="1400" spc="-1" strike="noStrike">
                <a:solidFill>
                  <a:srgbClr val="00b050"/>
                </a:solidFill>
                <a:latin typeface="Times New Roman"/>
              </a:rPr>
              <a:t>estrategias permanentes de evaluación y de apoy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para la superación de debilidades de los estudiantes y dar recomendaciones a estudiantes, padres de familia y do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 rot="16200000">
            <a:off x="4431960" y="2425320"/>
            <a:ext cx="667080" cy="7387920"/>
          </a:xfrm>
          <a:prstGeom prst="can">
            <a:avLst>
              <a:gd name="adj" fmla="val 5949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RE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misiones u otras instancias para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l seguimiento de los procesos de evaluación y promoción de los estudiantes </a:t>
            </a:r>
            <a:r>
              <a:rPr b="0" i="1" lang="es-CO" sz="1400" spc="-1" strike="noStrike" u="sng">
                <a:solidFill>
                  <a:srgbClr val="4f81bd"/>
                </a:solidFill>
                <a:uFillTx/>
                <a:latin typeface="Times New Roman"/>
              </a:rPr>
              <a:t>si lo considera pertinente</a:t>
            </a:r>
            <a:r>
              <a:rPr b="0" i="1" lang="es-CO" sz="1400" spc="-1" strike="noStrike">
                <a:solidFill>
                  <a:srgbClr val="4f81b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 rot="16200000">
            <a:off x="4668840" y="1674720"/>
            <a:ext cx="1008000" cy="6675480"/>
          </a:xfrm>
          <a:prstGeom prst="can">
            <a:avLst>
              <a:gd name="adj" fmla="val 9449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MOVER Y MANTENE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interlocución con los padres de familia y el estudiante,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con el fin de presen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informes periódicos de  evaluación, el plan de actividades de apoyo para la superación de las debilidades y acordar los compromisos por parte de todos los involuc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42960" y="3645000"/>
            <a:ext cx="1395360" cy="1655640"/>
          </a:xfrm>
          <a:prstGeom prst="rightArrowCallout">
            <a:avLst>
              <a:gd name="adj1" fmla="val 29666"/>
              <a:gd name="adj2" fmla="val 59326"/>
              <a:gd name="adj3" fmla="val 28213"/>
              <a:gd name="adj4" fmla="val 47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527040" y="585720"/>
            <a:ext cx="781200" cy="885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 rot="16200000">
            <a:off x="4030560" y="-853920"/>
            <a:ext cx="844560" cy="5235480"/>
          </a:xfrm>
          <a:prstGeom prst="can">
            <a:avLst>
              <a:gd name="adj" fmla="val 10518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TENDE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os requerimientos de los padres de familia y de los estudiantes, y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GRAM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con ellos cuando sea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 rot="16200000">
            <a:off x="4061520" y="-235800"/>
            <a:ext cx="854280" cy="6024600"/>
          </a:xfrm>
          <a:prstGeom prst="can">
            <a:avLst>
              <a:gd name="adj" fmla="val 6902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través del Consejo Directivo servir de instancia para 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CID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sobre reclamaciones que presenten los estudiantes o sus padres de familia en relación con la evaluación o promo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rot="16200000">
            <a:off x="4559400" y="1065240"/>
            <a:ext cx="1077840" cy="5805360"/>
          </a:xfrm>
          <a:prstGeom prst="can">
            <a:avLst>
              <a:gd name="adj" fmla="val 9675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eriódicamente los informes de evaluación con el fin d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DENTIFIC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ácticas escolares que puedan estar afectando el desempeño de los estudiantes, 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TRODUC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s modificaciones que sean necesarias para mejor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 rot="16200000">
            <a:off x="4182840" y="2377800"/>
            <a:ext cx="1008000" cy="5846760"/>
          </a:xfrm>
          <a:prstGeom prst="can">
            <a:avLst>
              <a:gd name="adj" fmla="val 5319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ESENTA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las pruebas censales del ICFES la totalidad de los estudiantes que se encuentren matriculados en los grados evaluados, y 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OLAB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éste en los procesos de inscripción y aplicación de las pruebas, según se le requi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971640" y="676440"/>
            <a:ext cx="1609560" cy="809640"/>
          </a:xfrm>
          <a:prstGeom prst="foldedCorner">
            <a:avLst>
              <a:gd name="adj" fmla="val 31046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R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6804000" y="571680"/>
            <a:ext cx="1378080" cy="975960"/>
          </a:xfrm>
          <a:prstGeom prst="can">
            <a:avLst>
              <a:gd name="adj" fmla="val 3243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943280" y="5286240"/>
            <a:ext cx="5700600" cy="80676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 asesoría y acompañamiento de los docentes para superar sus debilidades en el aprendiza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191040" y="2857680"/>
            <a:ext cx="4952880" cy="885600"/>
          </a:xfrm>
          <a:prstGeom prst="flowChartTerminator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el sistema institucional  de evaluación de los estudiantes: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criterios, procedimientos 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2928960" y="4076640"/>
            <a:ext cx="5357880" cy="936720"/>
          </a:xfrm>
          <a:prstGeom prst="flowChartTerminator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resultados de los procesos de evaluación y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oportunamente las respuestas a las inquietudes y solicitudes presentadas respecto a e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500120" y="1928880"/>
            <a:ext cx="6429600" cy="642960"/>
          </a:xfrm>
          <a:prstGeom prst="flowChartTerminator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Ser evalua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manera integral en todos los aspectos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ADÉMICOS, PERSONALES Y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684360" y="2852640"/>
            <a:ext cx="2160360" cy="2089080"/>
          </a:xfrm>
          <a:prstGeom prst="flowChartMultidocumen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TIEN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1571760" y="4437000"/>
            <a:ext cx="2423880" cy="1728720"/>
          </a:xfrm>
          <a:prstGeom prst="flowChartMultidocumen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6516720" y="500040"/>
            <a:ext cx="1603440" cy="947880"/>
          </a:xfrm>
          <a:prstGeom prst="can">
            <a:avLst>
              <a:gd name="adj" fmla="val 310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071720" y="714240"/>
            <a:ext cx="1628640" cy="914400"/>
          </a:xfrm>
          <a:prstGeom prst="foldedCorner">
            <a:avLst>
              <a:gd name="adj" fmla="val 40625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RES DEL 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28880" y="1452600"/>
            <a:ext cx="2751120" cy="2624040"/>
          </a:xfrm>
          <a:prstGeom prst="pie">
            <a:avLst/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los compromisos académicos y de convivencia definidos por el establecimiento educ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5219640" y="3857760"/>
            <a:ext cx="2952720" cy="2342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on las recomendaciones y compromisos adquiridos para la superación de sus de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"/>
          <p:cNvSpPr/>
          <p:nvPr/>
        </p:nvSpPr>
        <p:spPr>
          <a:xfrm>
            <a:off x="1214280" y="714240"/>
            <a:ext cx="2565720" cy="843120"/>
          </a:xfrm>
          <a:prstGeom prst="foldedCorner">
            <a:avLst>
              <a:gd name="adj" fmla="val 3956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DERECHO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6804000" y="571680"/>
            <a:ext cx="1173240" cy="961920"/>
          </a:xfrm>
          <a:prstGeom prst="can">
            <a:avLst>
              <a:gd name="adj" fmla="val 3156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95280" y="2997360"/>
            <a:ext cx="1873080" cy="2376360"/>
          </a:xfrm>
          <a:prstGeom prst="flowChartConnec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TIENEN LOS SIGUIENTES DERECH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057400" y="2114640"/>
            <a:ext cx="5872320" cy="95724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: </a:t>
            </a:r>
            <a:r>
              <a:rPr b="0" lang="es-CO" sz="1400" spc="-1" strike="noStrike">
                <a:solidFill>
                  <a:srgbClr val="ffc000"/>
                </a:solidFill>
                <a:latin typeface="Times New Roman"/>
              </a:rPr>
              <a:t>CRITERIOS, PROCEDIMIENTOS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2643120" y="3429000"/>
            <a:ext cx="4714920" cy="60012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OMPAÑA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proceso evaluativo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3929040" y="4437000"/>
            <a:ext cx="4286160" cy="59220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3429000" y="5300640"/>
            <a:ext cx="4815000" cy="87156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portunamente respuestas a las inquietudes y solicitudes presentadas sobre el proceso de evaluación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457200" y="480960"/>
            <a:ext cx="2257560" cy="728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VALUACIÓN DE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7500960" y="428760"/>
            <a:ext cx="7142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85840" y="3800520"/>
            <a:ext cx="126684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MBI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057400" y="1771560"/>
            <a:ext cx="1600200" cy="381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114640" y="5972040"/>
            <a:ext cx="1600200" cy="3812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114640" y="3800520"/>
            <a:ext cx="1600200" cy="371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010120" y="5877000"/>
            <a:ext cx="3486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Realizada por las I.E. de Educación Básica y Med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s el proceso permanente y objetivo para valorar el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nivel de desempeño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de los estudiante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896000" y="3638520"/>
            <a:ext cx="35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M.E.N. e ICFES. Realizarán pruebas censales, monitoreo de la calidad de la educación de las I.E. con fundamento en los estándares básic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Prueba Examen de Estado, Pruebas Sab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896000" y="1771560"/>
            <a:ext cx="3552840" cy="6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stado promoverá  la participación de los educandos en pruebas de calidad de la educación frente a estándares inter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1"/>
          <p:cNvCxnSpPr/>
          <p:nvPr/>
        </p:nvCxnSpPr>
        <p:spPr>
          <a:xfrm>
            <a:off x="1819080" y="1952280"/>
            <a:ext cx="38520" cy="42109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7" name="AutoShape 12"/>
          <p:cNvCxnSpPr/>
          <p:nvPr/>
        </p:nvCxnSpPr>
        <p:spPr>
          <a:xfrm>
            <a:off x="1819080" y="195228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8" name="AutoShape 13"/>
          <p:cNvCxnSpPr/>
          <p:nvPr/>
        </p:nvCxnSpPr>
        <p:spPr>
          <a:xfrm>
            <a:off x="1552320" y="3990600"/>
            <a:ext cx="56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9" name="AutoShape 14"/>
          <p:cNvCxnSpPr/>
          <p:nvPr/>
        </p:nvCxnSpPr>
        <p:spPr>
          <a:xfrm>
            <a:off x="1856880" y="6162480"/>
            <a:ext cx="2581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70" name="AutoShape 15"/>
          <p:cNvSpPr/>
          <p:nvPr/>
        </p:nvSpPr>
        <p:spPr>
          <a:xfrm>
            <a:off x="3905280" y="1905120"/>
            <a:ext cx="771480" cy="304560"/>
          </a:xfrm>
          <a:prstGeom prst="rightArrow">
            <a:avLst>
              <a:gd name="adj1" fmla="val 50000"/>
              <a:gd name="adj2" fmla="val 6332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3905280" y="3886200"/>
            <a:ext cx="771480" cy="285840"/>
          </a:xfrm>
          <a:prstGeom prst="rightArrow">
            <a:avLst>
              <a:gd name="adj1" fmla="val 50000"/>
              <a:gd name="adj2" fmla="val 67475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3905280" y="6029280"/>
            <a:ext cx="890640" cy="324000"/>
          </a:xfrm>
          <a:prstGeom prst="rightArrow">
            <a:avLst>
              <a:gd name="adj1" fmla="val 50000"/>
              <a:gd name="adj2" fmla="val 6872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2"/>
          <p:cNvSpPr/>
          <p:nvPr/>
        </p:nvSpPr>
        <p:spPr>
          <a:xfrm>
            <a:off x="539640" y="2924280"/>
            <a:ext cx="1895760" cy="1987560"/>
          </a:xfrm>
          <a:prstGeom prst="flowChartConnector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1476360" y="785880"/>
            <a:ext cx="2519280" cy="10587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RE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300720" y="642960"/>
            <a:ext cx="1542960" cy="990720"/>
          </a:xfrm>
          <a:prstGeom prst="can">
            <a:avLst>
              <a:gd name="adj" fmla="val 3209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2500200" y="2060640"/>
            <a:ext cx="6105600" cy="920520"/>
          </a:xfrm>
          <a:prstGeom prst="leftArrowCallout">
            <a:avLst>
              <a:gd name="adj1" fmla="val 31253"/>
              <a:gd name="adj2" fmla="val 46875"/>
              <a:gd name="adj3" fmla="val 76154"/>
              <a:gd name="adj4" fmla="val 85550"/>
            </a:avLst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ARTICIPAR,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a través de las instancias del gobierno escolar, en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finición de criterios y procedimient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la evaluación del aprendizaje de los estudiantes y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000240" y="3429000"/>
            <a:ext cx="5505480" cy="752400"/>
          </a:xfrm>
          <a:prstGeom prst="leftArrowCallout">
            <a:avLst>
              <a:gd name="adj1" fmla="val 25002"/>
              <a:gd name="adj2" fmla="val 42185"/>
              <a:gd name="adj3" fmla="val 108336"/>
              <a:gd name="adj4" fmla="val 84670"/>
            </a:avLst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seguimiento permanente al proceso evaluativo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643120" y="4714920"/>
            <a:ext cx="4286160" cy="730080"/>
          </a:xfrm>
          <a:prstGeom prst="leftArrowCallout">
            <a:avLst>
              <a:gd name="adj1" fmla="val 40624"/>
              <a:gd name="adj2" fmla="val 48435"/>
              <a:gd name="adj3" fmla="val 142095"/>
              <a:gd name="adj4" fmla="val 74697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1514520" y="765000"/>
            <a:ext cx="2209680" cy="11401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GISTR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516720" y="714240"/>
            <a:ext cx="1308240" cy="1130400"/>
          </a:xfrm>
          <a:prstGeom prst="can">
            <a:avLst>
              <a:gd name="adj" fmla="val 2990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20163000">
            <a:off x="1248840" y="3214440"/>
            <a:ext cx="1467000" cy="1504800"/>
          </a:xfrm>
          <a:prstGeom prst="smileyFace">
            <a:avLst>
              <a:gd name="adj" fmla="val 9282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371840" y="2495520"/>
            <a:ext cx="3505320" cy="3143160"/>
          </a:xfrm>
          <a:prstGeom prst="wedgeEllipseCallout">
            <a:avLst>
              <a:gd name="adj1" fmla="val -91847"/>
              <a:gd name="adj2" fmla="val -490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os  E. E. </a:t>
            </a:r>
            <a:r>
              <a:rPr b="1" i="1" lang="es-CO" sz="16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1" i="1" lang="es-CO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levar un </a:t>
            </a:r>
            <a:r>
              <a:rPr b="0" i="1" lang="es-CO" sz="1600" spc="-1" strike="noStrike">
                <a:solidFill>
                  <a:srgbClr val="00b050"/>
                </a:solidFill>
                <a:latin typeface="Times New Roman"/>
              </a:rPr>
              <a:t>registr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actualizado de los estudiantes que contenga, además de los datos de identificación personal, el informe de valoración por grados y el estado de la evaluación, que incluya las novedades académicas que sur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928800" y="357120"/>
            <a:ext cx="2428920" cy="11271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ANCIAS DE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7164360" y="428760"/>
            <a:ext cx="1224000" cy="985680"/>
          </a:xfrm>
          <a:prstGeom prst="can">
            <a:avLst>
              <a:gd name="adj" fmla="val 3117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500120" y="2071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3500280" y="1357200"/>
            <a:ext cx="3800520" cy="1190880"/>
          </a:xfrm>
          <a:prstGeom prst="wedgeRoundRectCallout">
            <a:avLst>
              <a:gd name="adj1" fmla="val -76814"/>
              <a:gd name="adj2" fmla="val 75439"/>
              <a:gd name="adj3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, a solicitud del padre de familia,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be emit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stancias de desempeño de cada grado cursado, en las que se </a:t>
            </a:r>
            <a:r>
              <a:rPr b="0" lang="es-CO" sz="1400" spc="-1" strike="noStrike">
                <a:solidFill>
                  <a:srgbClr val="4f6228"/>
                </a:solidFill>
                <a:latin typeface="Times New Roman"/>
              </a:rPr>
              <a:t>consignarán los resultados de los </a:t>
            </a:r>
            <a:r>
              <a:rPr b="0" lang="es-CO" sz="1400" spc="-1" strike="noStrike" u="sng">
                <a:solidFill>
                  <a:srgbClr val="4f6228"/>
                </a:solidFill>
                <a:uFillTx/>
                <a:latin typeface="Times New Roman"/>
              </a:rPr>
              <a:t>informes periód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571680" y="2786040"/>
            <a:ext cx="7972200" cy="3638520"/>
          </a:xfrm>
          <a:custGeom>
            <a:avLst/>
            <a:gdLst>
              <a:gd name="textAreaLeft" fmla="*/ 1832400 w 7972200"/>
              <a:gd name="textAreaRight" fmla="*/ 6139800 w 7972200"/>
              <a:gd name="textAreaTop" fmla="*/ 836280 h 3638520"/>
              <a:gd name="textAreaBottom" fmla="*/ 2802240 h 363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00" y="12375"/>
                </a:lnTo>
                <a:lnTo>
                  <a:pt x="786" y="14846"/>
                </a:lnTo>
                <a:lnTo>
                  <a:pt x="3879" y="15294"/>
                </a:lnTo>
                <a:lnTo>
                  <a:pt x="3163" y="18437"/>
                </a:lnTo>
                <a:lnTo>
                  <a:pt x="6186" y="17641"/>
                </a:lnTo>
                <a:lnTo>
                  <a:pt x="6580" y="20741"/>
                </a:lnTo>
                <a:lnTo>
                  <a:pt x="9084" y="18872"/>
                </a:lnTo>
                <a:lnTo>
                  <a:pt x="10800" y="21600"/>
                </a:lnTo>
                <a:lnTo>
                  <a:pt x="12375" y="18900"/>
                </a:lnTo>
                <a:lnTo>
                  <a:pt x="14846" y="20814"/>
                </a:lnTo>
                <a:lnTo>
                  <a:pt x="15294" y="17721"/>
                </a:lnTo>
                <a:lnTo>
                  <a:pt x="18437" y="18437"/>
                </a:lnTo>
                <a:lnTo>
                  <a:pt x="17641" y="15414"/>
                </a:lnTo>
                <a:lnTo>
                  <a:pt x="20741" y="15020"/>
                </a:lnTo>
                <a:lnTo>
                  <a:pt x="18872" y="12516"/>
                </a:lnTo>
                <a:lnTo>
                  <a:pt x="21600" y="10800"/>
                </a:lnTo>
                <a:lnTo>
                  <a:pt x="18900" y="9225"/>
                </a:lnTo>
                <a:lnTo>
                  <a:pt x="20814" y="6754"/>
                </a:lnTo>
                <a:lnTo>
                  <a:pt x="17721" y="6306"/>
                </a:lnTo>
                <a:lnTo>
                  <a:pt x="18437" y="3163"/>
                </a:lnTo>
                <a:lnTo>
                  <a:pt x="15414" y="3959"/>
                </a:lnTo>
                <a:lnTo>
                  <a:pt x="15020" y="859"/>
                </a:lnTo>
                <a:lnTo>
                  <a:pt x="12516" y="2728"/>
                </a:lnTo>
                <a:lnTo>
                  <a:pt x="10800" y="0"/>
                </a:lnTo>
                <a:lnTo>
                  <a:pt x="9225" y="2700"/>
                </a:lnTo>
                <a:lnTo>
                  <a:pt x="6754" y="786"/>
                </a:lnTo>
                <a:lnTo>
                  <a:pt x="6306" y="3879"/>
                </a:lnTo>
                <a:lnTo>
                  <a:pt x="3163" y="3163"/>
                </a:lnTo>
                <a:lnTo>
                  <a:pt x="3959" y="6186"/>
                </a:lnTo>
                <a:lnTo>
                  <a:pt x="859" y="6580"/>
                </a:lnTo>
                <a:lnTo>
                  <a:pt x="2728" y="908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uando la constancia de desempeño reporte que el estudiante ha sido promovido al siguiente grado y se traslade de un E. E. a otro, será matriculado en el grado que fue promovido según el re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Si el E. E. receptor, </a:t>
            </a:r>
            <a:r>
              <a:rPr b="0" i="1" lang="es-CO" sz="1600" spc="-1" strike="noStrike">
                <a:solidFill>
                  <a:srgbClr val="ffc000"/>
                </a:solidFill>
                <a:latin typeface="Times New Roman"/>
              </a:rPr>
              <a:t>a través de una evaluación diagnóstica,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considera que el estudiante </a:t>
            </a:r>
            <a:r>
              <a:rPr b="0" i="1" lang="es-CO" sz="1600" spc="-1" strike="noStrike">
                <a:solidFill>
                  <a:srgbClr val="ff0000"/>
                </a:solidFill>
                <a:latin typeface="Times New Roman"/>
              </a:rPr>
              <a:t>necesita procesos de apoy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para estar acorde con las exigencias académicas del nuevo curso, debe implement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785880" y="642960"/>
            <a:ext cx="266688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RAD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6659640" y="500040"/>
            <a:ext cx="1288800" cy="1128600"/>
          </a:xfrm>
          <a:prstGeom prst="can">
            <a:avLst>
              <a:gd name="adj" fmla="val 3230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214280" y="2708280"/>
            <a:ext cx="6782040" cy="2665440"/>
          </a:xfrm>
          <a:custGeom>
            <a:avLst/>
            <a:gdLst>
              <a:gd name="textAreaLeft" fmla="*/ 1695600 w 6782040"/>
              <a:gd name="textAreaRight" fmla="*/ 5086800 w 678204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Los estudiantes que culminen la Educación Media obtendrán el titulo de Bachiller Académico o Técnico,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cuando hayan cumplido con todos los requisitos de promoción adoptados por el  E. E. en su P.E.I, de acuerdo con la Ley y las normas reglame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1071720" y="357120"/>
            <a:ext cx="242856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IG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7215120" y="285840"/>
            <a:ext cx="781200" cy="106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072040" y="1285920"/>
            <a:ext cx="3571920" cy="3006720"/>
          </a:xfrm>
          <a:custGeom>
            <a:avLst/>
            <a:gdLst>
              <a:gd name="textAreaLeft" fmla="*/ 740520 w 3571920"/>
              <a:gd name="textAreaRight" fmla="*/ 2831400 w 3571920"/>
              <a:gd name="textAreaTop" fmla="*/ 623160 h 3006720"/>
              <a:gd name="textAreaBottom" fmla="*/ 2383560 h 300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1" y="14149"/>
                </a:lnTo>
                <a:lnTo>
                  <a:pt x="3163" y="18437"/>
                </a:lnTo>
                <a:lnTo>
                  <a:pt x="7307" y="19029"/>
                </a:lnTo>
                <a:lnTo>
                  <a:pt x="10800" y="21600"/>
                </a:lnTo>
                <a:lnTo>
                  <a:pt x="14149" y="19089"/>
                </a:lnTo>
                <a:lnTo>
                  <a:pt x="18437" y="18437"/>
                </a:lnTo>
                <a:lnTo>
                  <a:pt x="19029" y="14293"/>
                </a:lnTo>
                <a:lnTo>
                  <a:pt x="21600" y="10800"/>
                </a:lnTo>
                <a:lnTo>
                  <a:pt x="19089" y="7451"/>
                </a:lnTo>
                <a:lnTo>
                  <a:pt x="18437" y="3163"/>
                </a:lnTo>
                <a:lnTo>
                  <a:pt x="14293" y="2571"/>
                </a:lnTo>
                <a:lnTo>
                  <a:pt x="10800" y="0"/>
                </a:lnTo>
                <a:lnTo>
                  <a:pt x="7451" y="2511"/>
                </a:lnTo>
                <a:lnTo>
                  <a:pt x="3163" y="3163"/>
                </a:lnTo>
                <a:lnTo>
                  <a:pt x="2571" y="730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07932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E. E.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CLUIRÁ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s actividades correspondientes al año escolar en curso con sujeción a las disposiciones de los decretos 230 y 3055 de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476360" y="3068640"/>
            <a:ext cx="4929120" cy="3529080"/>
          </a:xfrm>
          <a:custGeom>
            <a:avLst/>
            <a:gdLst>
              <a:gd name="textAreaLeft" fmla="*/ 901800 w 4929120"/>
              <a:gd name="textAreaRight" fmla="*/ 4027320 w 4929120"/>
              <a:gd name="textAreaTop" fmla="*/ 645480 h 3529080"/>
              <a:gd name="textAreaBottom" fmla="*/ 288360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20" y="14428"/>
                </a:lnTo>
                <a:lnTo>
                  <a:pt x="3163" y="18437"/>
                </a:lnTo>
                <a:lnTo>
                  <a:pt x="7016" y="19715"/>
                </a:lnTo>
                <a:lnTo>
                  <a:pt x="10800" y="21600"/>
                </a:lnTo>
                <a:lnTo>
                  <a:pt x="14428" y="19780"/>
                </a:lnTo>
                <a:lnTo>
                  <a:pt x="18437" y="18437"/>
                </a:lnTo>
                <a:lnTo>
                  <a:pt x="19715" y="14584"/>
                </a:lnTo>
                <a:lnTo>
                  <a:pt x="21600" y="10800"/>
                </a:lnTo>
                <a:lnTo>
                  <a:pt x="19780" y="7172"/>
                </a:lnTo>
                <a:lnTo>
                  <a:pt x="18437" y="3163"/>
                </a:lnTo>
                <a:lnTo>
                  <a:pt x="14584" y="1885"/>
                </a:lnTo>
                <a:lnTo>
                  <a:pt x="10800" y="0"/>
                </a:lnTo>
                <a:lnTo>
                  <a:pt x="7172" y="1820"/>
                </a:lnTo>
                <a:lnTo>
                  <a:pt x="3163" y="3163"/>
                </a:lnTo>
                <a:lnTo>
                  <a:pt x="1885" y="70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35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E. E. de  calendario A el presente decreto rige a partir del primero (1) de ener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b050"/>
                </a:solidFill>
                <a:latin typeface="Calibri"/>
              </a:rPr>
              <a:t>Para los de calendario B a partir del inicio del año escolar 2009 – 20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70c0"/>
                </a:solidFill>
                <a:latin typeface="Calibri"/>
              </a:rPr>
              <a:t>Deroga los decretos 230 y 3055 de 2002 y las demás disposiciones que le sean contrarias a partir de estas fec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468360" y="1268280"/>
            <a:ext cx="3352680" cy="2352960"/>
          </a:xfrm>
          <a:custGeom>
            <a:avLst/>
            <a:gdLst>
              <a:gd name="textAreaLeft" fmla="*/ 645480 w 3352680"/>
              <a:gd name="textAreaRight" fmla="*/ 2707200 w 3352680"/>
              <a:gd name="textAreaTop" fmla="*/ 453240 h 2352960"/>
              <a:gd name="textAreaBottom" fmla="*/ 1899720 h 235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94" y="14318"/>
                </a:lnTo>
                <a:lnTo>
                  <a:pt x="3163" y="18437"/>
                </a:lnTo>
                <a:lnTo>
                  <a:pt x="7131" y="19444"/>
                </a:lnTo>
                <a:lnTo>
                  <a:pt x="10800" y="21600"/>
                </a:lnTo>
                <a:lnTo>
                  <a:pt x="14318" y="19506"/>
                </a:lnTo>
                <a:lnTo>
                  <a:pt x="18437" y="18437"/>
                </a:lnTo>
                <a:lnTo>
                  <a:pt x="19444" y="14469"/>
                </a:lnTo>
                <a:lnTo>
                  <a:pt x="21600" y="10800"/>
                </a:lnTo>
                <a:lnTo>
                  <a:pt x="19506" y="7282"/>
                </a:lnTo>
                <a:lnTo>
                  <a:pt x="18437" y="3163"/>
                </a:lnTo>
                <a:lnTo>
                  <a:pt x="14469" y="2156"/>
                </a:lnTo>
                <a:lnTo>
                  <a:pt x="10800" y="0"/>
                </a:lnTo>
                <a:lnTo>
                  <a:pt x="7282" y="2094"/>
                </a:lnTo>
                <a:lnTo>
                  <a:pt x="3163" y="3163"/>
                </a:lnTo>
                <a:lnTo>
                  <a:pt x="2156" y="7131"/>
                </a:lnTo>
                <a:lnTo>
                  <a:pt x="0" y="1080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partir de la publicación del presente decret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odos los E. E.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realizarán las actividades preparatorias pertinentes para su 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90520" y="357120"/>
            <a:ext cx="153360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TO DEL DEC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8024760" y="419040"/>
            <a:ext cx="762120" cy="947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728640" y="2662200"/>
            <a:ext cx="2914560" cy="9144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LA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043520" y="1023840"/>
            <a:ext cx="293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EVALUACIÓN DEL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48280" y="2938320"/>
            <a:ext cx="2828880" cy="63828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3147840" y="4424400"/>
            <a:ext cx="4152960" cy="2324160"/>
          </a:xfrm>
          <a:prstGeom prst="irregularSeal1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QUE DEB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REALIZAR 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STITUCIONES EDU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234040" y="2043000"/>
            <a:ext cx="485640" cy="771480"/>
          </a:xfrm>
          <a:prstGeom prst="downArrow">
            <a:avLst>
              <a:gd name="adj1" fmla="val 50000"/>
              <a:gd name="adj2" fmla="val 39715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014800" y="3890880"/>
            <a:ext cx="390600" cy="843120"/>
          </a:xfrm>
          <a:prstGeom prst="downArrow">
            <a:avLst>
              <a:gd name="adj1" fmla="val 50000"/>
              <a:gd name="adj2" fmla="val 53963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 rot="19071000">
            <a:off x="1700280" y="114264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647640" y="457200"/>
            <a:ext cx="2352600" cy="68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ÓSITOS DE LA EVALUACIÓN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867800" y="357120"/>
            <a:ext cx="7808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000680" y="1143000"/>
            <a:ext cx="1666800" cy="676440"/>
          </a:xfrm>
          <a:prstGeom prst="ellipse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ÓSIT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47840" y="2657520"/>
            <a:ext cx="1676520" cy="3999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ORCIO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295880" y="2657520"/>
            <a:ext cx="1355760" cy="399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MINISTR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812000" y="2657520"/>
            <a:ext cx="107496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POR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85840" y="2657520"/>
            <a:ext cx="1406520" cy="352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DENTIFIC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012000" y="2657520"/>
            <a:ext cx="1439640" cy="399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TER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268360" y="3933720"/>
            <a:ext cx="1511640" cy="2303640"/>
          </a:xfrm>
          <a:prstGeom prst="rect">
            <a:avLst/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básica para consolidar o reorientar los procesos educativos relacionados con el desarrollo integral del educ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4000" y="3933720"/>
            <a:ext cx="1511280" cy="2087640"/>
          </a:xfrm>
          <a:prstGeom prst="rect">
            <a:avLst/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racterísticas personales, intereses, ritmos de desarrollo, estilos de aprendizaje del estudiante para valorar sus av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140360" y="3933720"/>
            <a:ext cx="1726920" cy="2664000"/>
          </a:xfrm>
          <a:prstGeom prst="rect">
            <a:avLst/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que permita implementar estrategias pedagógicas para apoyar a los estudiantes que presenten debilidades y desempeños superiores en su proceso form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084720" y="3933720"/>
            <a:ext cx="1151280" cy="1366920"/>
          </a:xfrm>
          <a:prstGeom prst="rect">
            <a:avLst/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romoción de estudian-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7451640" y="3933720"/>
            <a:ext cx="1435320" cy="2016360"/>
          </a:xfrm>
          <a:prstGeom prst="rect">
            <a:avLst/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para el ajuste e implementación del plan de mejoramiento institu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5"/>
          <p:cNvCxnSpPr/>
          <p:nvPr/>
        </p:nvCxnSpPr>
        <p:spPr>
          <a:xfrm>
            <a:off x="875880" y="2133360"/>
            <a:ext cx="758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6" name="AutoShape 16"/>
          <p:cNvCxnSpPr/>
          <p:nvPr/>
        </p:nvCxnSpPr>
        <p:spPr>
          <a:xfrm>
            <a:off x="875880" y="2133360"/>
            <a:ext cx="1080" cy="524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7" name="AutoShape 17"/>
          <p:cNvCxnSpPr/>
          <p:nvPr/>
        </p:nvCxnSpPr>
        <p:spPr>
          <a:xfrm flipV="1">
            <a:off x="28857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8" name="AutoShape 18"/>
          <p:cNvCxnSpPr/>
          <p:nvPr/>
        </p:nvCxnSpPr>
        <p:spPr>
          <a:xfrm flipV="1">
            <a:off x="4885920" y="2152440"/>
            <a:ext cx="1044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9" name="AutoShape 19"/>
          <p:cNvCxnSpPr/>
          <p:nvPr/>
        </p:nvCxnSpPr>
        <p:spPr>
          <a:xfrm flipV="1">
            <a:off x="67719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0" name="AutoShape 20"/>
          <p:cNvCxnSpPr/>
          <p:nvPr/>
        </p:nvCxnSpPr>
        <p:spPr>
          <a:xfrm>
            <a:off x="8457840" y="215280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1" name="AutoShape 21"/>
          <p:cNvCxnSpPr/>
          <p:nvPr/>
        </p:nvCxnSpPr>
        <p:spPr>
          <a:xfrm flipV="1">
            <a:off x="4895640" y="1818720"/>
            <a:ext cx="1080" cy="315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2" name="AutoShape 22"/>
          <p:cNvCxnSpPr/>
          <p:nvPr/>
        </p:nvCxnSpPr>
        <p:spPr>
          <a:xfrm flipV="1">
            <a:off x="875880" y="3057120"/>
            <a:ext cx="1080" cy="876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3" name="AutoShape 23"/>
          <p:cNvCxnSpPr/>
          <p:nvPr/>
        </p:nvCxnSpPr>
        <p:spPr>
          <a:xfrm flipV="1">
            <a:off x="288576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4" name="AutoShape 24"/>
          <p:cNvCxnSpPr/>
          <p:nvPr/>
        </p:nvCxnSpPr>
        <p:spPr>
          <a:xfrm flipV="1">
            <a:off x="489564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5" name="AutoShape 25"/>
          <p:cNvCxnSpPr/>
          <p:nvPr/>
        </p:nvCxnSpPr>
        <p:spPr>
          <a:xfrm flipV="1">
            <a:off x="681948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6" name="AutoShape 26"/>
          <p:cNvCxnSpPr/>
          <p:nvPr/>
        </p:nvCxnSpPr>
        <p:spPr>
          <a:xfrm flipV="1">
            <a:off x="8362440" y="3056760"/>
            <a:ext cx="1080" cy="8103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4067280" y="311040"/>
            <a:ext cx="1873080" cy="885960"/>
          </a:xfrm>
          <a:custGeom>
            <a:avLst/>
            <a:gdLst>
              <a:gd name="textAreaLeft" fmla="*/ 381600 w 1873080"/>
              <a:gd name="textAreaRight" fmla="*/ 1491480 w 187308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1403280" y="3429000"/>
            <a:ext cx="3525840" cy="93672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seguimiento para el mejoramiento  de los desempeños  de los estudiantes durante el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4859280" y="1413000"/>
            <a:ext cx="3286080" cy="9363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CALA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valoración institucional y su respectiva equivalencia con la escal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7"/>
          <p:cNvSpPr/>
          <p:nvPr/>
        </p:nvSpPr>
        <p:spPr>
          <a:xfrm>
            <a:off x="900000" y="1714680"/>
            <a:ext cx="2538360" cy="5619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OS CRITERIO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evaluación y promo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5429160" y="2571840"/>
            <a:ext cx="2990880" cy="569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PROCESO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auto evaluación de los estudiantes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9"/>
          <p:cNvSpPr/>
          <p:nvPr/>
        </p:nvSpPr>
        <p:spPr>
          <a:xfrm>
            <a:off x="1547640" y="4572000"/>
            <a:ext cx="4096080" cy="87300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6dde8"/>
              </a:gs>
            </a:gsLst>
            <a:lin ang="54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 DE APOY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necesarias para resolver situaciones pedagógicas pendientes de los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2195640" y="5516640"/>
            <a:ext cx="5786280" cy="8650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GARANTIZA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los directivos docentes y docentes del establecimiento educativo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a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 los procesos evaluativos estipulados en el sistema institucional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1"/>
          <p:cNvSpPr/>
          <p:nvPr/>
        </p:nvSpPr>
        <p:spPr>
          <a:xfrm>
            <a:off x="755640" y="2571840"/>
            <a:ext cx="3530520" cy="6411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valoración integral de los desempeños de los estudiante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6"/>
          <p:cNvSpPr/>
          <p:nvPr/>
        </p:nvSpPr>
        <p:spPr>
          <a:xfrm>
            <a:off x="6357960" y="3500280"/>
            <a:ext cx="2610000" cy="1368720"/>
          </a:xfrm>
          <a:prstGeom prst="cloudCallout">
            <a:avLst>
              <a:gd name="adj1" fmla="val -64902"/>
              <a:gd name="adj2" fmla="val 38282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ARTE DE COORDINAR LAS ACCIONES Y DE MANIOBRAR PARA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LCANZAR UN OBJE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2"/>
          <p:cNvSpPr/>
          <p:nvPr/>
        </p:nvSpPr>
        <p:spPr>
          <a:xfrm>
            <a:off x="1428840" y="2571840"/>
            <a:ext cx="5343480" cy="785880"/>
          </a:xfrm>
          <a:prstGeom prst="flowChartPunchedCard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TRUCTURA de los inform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ara que sean claros, comprensibles y den información integral del avance en la formación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3"/>
          <p:cNvSpPr/>
          <p:nvPr/>
        </p:nvSpPr>
        <p:spPr>
          <a:xfrm>
            <a:off x="2556000" y="3857760"/>
            <a:ext cx="5368680" cy="1011240"/>
          </a:xfrm>
          <a:prstGeom prst="flowChartPunchedCard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AS INSTANCIAS, PROCEDIMIENTOS Y MECANISMOS DE ATENCIÓN Y RESOLUCIÓN DE RECLAMACIONE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padres de familia y estudiantes sobre </a:t>
            </a:r>
            <a:r>
              <a:rPr b="0" i="1" lang="es-CO" sz="1400" spc="-1" strike="noStrike">
                <a:solidFill>
                  <a:srgbClr val="000000"/>
                </a:solidFill>
                <a:latin typeface="Calibri"/>
              </a:rPr>
              <a:t>evaluación y promoción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971640" y="1285920"/>
            <a:ext cx="3619440" cy="774720"/>
          </a:xfrm>
          <a:prstGeom prst="flowChartPunchedCard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PERIODICIDAD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ntrega de informes a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3564000" y="5072040"/>
            <a:ext cx="4794120" cy="949320"/>
          </a:xfrm>
          <a:prstGeom prst="flowChartPunchedCard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MECANISMOS DE PARTICIPACIÓN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a comunidad educativa en la construcción del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5 Cilindro"/>
          <p:cNvSpPr/>
          <p:nvPr/>
        </p:nvSpPr>
        <p:spPr>
          <a:xfrm>
            <a:off x="7572240" y="642960"/>
            <a:ext cx="914400" cy="1216080"/>
          </a:xfrm>
          <a:prstGeom prst="can">
            <a:avLst>
              <a:gd name="adj" fmla="val 188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T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561960" y="333360"/>
            <a:ext cx="1895400" cy="934920"/>
          </a:xfrm>
          <a:prstGeom prst="foldedCorner">
            <a:avLst>
              <a:gd name="adj" fmla="val 4013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SCALA DE VALORACIÓN 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8028000" y="404640"/>
            <a:ext cx="906480" cy="792360"/>
          </a:xfrm>
          <a:prstGeom prst="can">
            <a:avLst>
              <a:gd name="adj" fmla="val 304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09680" y="2473200"/>
            <a:ext cx="2047680" cy="57168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LA ESCALA DE VALORACIÓN NACION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705120" y="1025640"/>
            <a:ext cx="1866960" cy="546120"/>
          </a:xfrm>
          <a:prstGeom prst="flowChartPreparation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SUPERI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05120" y="2016000"/>
            <a:ext cx="1795680" cy="514440"/>
          </a:xfrm>
          <a:prstGeom prst="flowChartPreparation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AL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571920" y="4206960"/>
            <a:ext cx="1857240" cy="542880"/>
          </a:xfrm>
          <a:prstGeom prst="flowChartPreparation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AJ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705120" y="3044880"/>
            <a:ext cx="1795680" cy="542880"/>
          </a:xfrm>
          <a:prstGeom prst="flowChartPreparation">
            <a:avLst/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ÁS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5643720" y="1785960"/>
            <a:ext cx="3257280" cy="923760"/>
          </a:xfrm>
          <a:prstGeom prst="flowChartPunchedCard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CADA ESTABLECIMIENTO EDUCATIVO </a:t>
            </a:r>
            <a:r>
              <a:rPr b="0" i="1" lang="es-CO" sz="1000" spc="-1" strike="noStrike">
                <a:solidFill>
                  <a:srgbClr val="ff0000"/>
                </a:solidFill>
                <a:latin typeface="Times New Roman"/>
              </a:rPr>
              <a:t>DEFINIRÁ Y ADOPTARÁ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 SU ESCALA DE VALORACIÓN DE LOS DESEMPEÑOS DE LOS ESTUDIANTES EN SU SISTEMA DE EVALU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86240" y="3214800"/>
            <a:ext cx="3581640" cy="3419280"/>
          </a:xfrm>
          <a:custGeom>
            <a:avLst/>
            <a:gdLst>
              <a:gd name="textAreaLeft" fmla="*/ 766800 w 3581640"/>
              <a:gd name="textAreaRight" fmla="*/ 2814840 w 3581640"/>
              <a:gd name="textAreaTop" fmla="*/ 732240 h 3419280"/>
              <a:gd name="textAreaBottom" fmla="*/ 2687040 h 34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2466"/>
                </a:lnTo>
                <a:lnTo>
                  <a:pt x="786" y="14846"/>
                </a:lnTo>
                <a:lnTo>
                  <a:pt x="3477" y="15556"/>
                </a:lnTo>
                <a:lnTo>
                  <a:pt x="3163" y="18437"/>
                </a:lnTo>
                <a:lnTo>
                  <a:pt x="5917" y="18039"/>
                </a:lnTo>
                <a:lnTo>
                  <a:pt x="6580" y="20741"/>
                </a:lnTo>
                <a:lnTo>
                  <a:pt x="8985" y="19341"/>
                </a:lnTo>
                <a:lnTo>
                  <a:pt x="10800" y="21600"/>
                </a:lnTo>
                <a:lnTo>
                  <a:pt x="12466" y="19372"/>
                </a:lnTo>
                <a:lnTo>
                  <a:pt x="14846" y="20814"/>
                </a:lnTo>
                <a:lnTo>
                  <a:pt x="15556" y="18123"/>
                </a:lnTo>
                <a:lnTo>
                  <a:pt x="18437" y="18437"/>
                </a:lnTo>
                <a:lnTo>
                  <a:pt x="18039" y="15683"/>
                </a:lnTo>
                <a:lnTo>
                  <a:pt x="20741" y="15020"/>
                </a:lnTo>
                <a:lnTo>
                  <a:pt x="19341" y="12615"/>
                </a:lnTo>
                <a:lnTo>
                  <a:pt x="21600" y="10800"/>
                </a:lnTo>
                <a:lnTo>
                  <a:pt x="19372" y="9134"/>
                </a:lnTo>
                <a:lnTo>
                  <a:pt x="20814" y="6754"/>
                </a:lnTo>
                <a:lnTo>
                  <a:pt x="18123" y="6044"/>
                </a:lnTo>
                <a:lnTo>
                  <a:pt x="18437" y="3163"/>
                </a:lnTo>
                <a:lnTo>
                  <a:pt x="15683" y="3561"/>
                </a:lnTo>
                <a:lnTo>
                  <a:pt x="15020" y="859"/>
                </a:lnTo>
                <a:lnTo>
                  <a:pt x="12615" y="2259"/>
                </a:lnTo>
                <a:lnTo>
                  <a:pt x="10800" y="0"/>
                </a:lnTo>
                <a:lnTo>
                  <a:pt x="9134" y="2228"/>
                </a:lnTo>
                <a:lnTo>
                  <a:pt x="6754" y="786"/>
                </a:lnTo>
                <a:lnTo>
                  <a:pt x="6044" y="3477"/>
                </a:lnTo>
                <a:lnTo>
                  <a:pt x="3163" y="3163"/>
                </a:lnTo>
                <a:lnTo>
                  <a:pt x="3561" y="5917"/>
                </a:lnTo>
                <a:lnTo>
                  <a:pt x="859" y="6580"/>
                </a:lnTo>
                <a:lnTo>
                  <a:pt x="2259" y="898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ÁSIC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superación de los </a:t>
            </a:r>
            <a:r>
              <a:rPr b="0" i="1" lang="es-CO" sz="1200" spc="-1" strike="noStrike">
                <a:solidFill>
                  <a:srgbClr val="ffff00"/>
                </a:solidFill>
                <a:latin typeface="Times New Roman"/>
              </a:rPr>
              <a:t>desempeños necesari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en relación con las áreas obligatorias y fundamentales, teniendo como referente los estándares básicos  y lineamientos expedidos por MEN y establecido en el P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285920" y="5357880"/>
            <a:ext cx="2333520" cy="961920"/>
          </a:xfrm>
          <a:prstGeom prst="flowChartDocumen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AJ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</a:t>
            </a:r>
            <a:r>
              <a:rPr b="1" lang="es-CO" sz="1200" spc="-1" strike="noStrike">
                <a:solidFill>
                  <a:srgbClr val="1f497d"/>
                </a:solidFill>
                <a:latin typeface="Times New Roman"/>
              </a:rPr>
              <a:t>no superación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de los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desempeños neces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 rot="18909600">
            <a:off x="1803240" y="1388880"/>
            <a:ext cx="2203560" cy="58068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 rot="19341000">
            <a:off x="2293920" y="2016000"/>
            <a:ext cx="1743120" cy="57780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 rot="1553400">
            <a:off x="2225160" y="3230280"/>
            <a:ext cx="1810080" cy="595080"/>
          </a:xfrm>
          <a:custGeom>
            <a:avLst/>
            <a:gdLst>
              <a:gd name="textAreaLeft" fmla="*/ 316800 w 1810080"/>
              <a:gd name="textAreaRight" fmla="*/ 1312560 w 1810080"/>
              <a:gd name="textAreaTop" fmla="*/ 79560 h 595080"/>
              <a:gd name="textAreaBottom" fmla="*/ 51552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 rot="2247000">
            <a:off x="1422360" y="3931920"/>
            <a:ext cx="2867040" cy="665280"/>
          </a:xfrm>
          <a:custGeom>
            <a:avLst/>
            <a:gdLst>
              <a:gd name="textAreaLeft" fmla="*/ 501480 w 2867040"/>
              <a:gd name="textAreaRight" fmla="*/ 2078640 w 2867040"/>
              <a:gd name="textAreaTop" fmla="*/ 88920 h 665280"/>
              <a:gd name="textAreaBottom" fmla="*/ 5763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500040"/>
            <a:ext cx="1128600" cy="1128600"/>
          </a:xfrm>
          <a:prstGeom prst="can">
            <a:avLst>
              <a:gd name="adj" fmla="val 3027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 rot="20170200">
            <a:off x="1379160" y="515160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1000080" y="1000080"/>
            <a:ext cx="1781280" cy="7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539640" y="2060640"/>
            <a:ext cx="2828880" cy="98568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3780000" y="3573360"/>
            <a:ext cx="2858760" cy="8668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4929120" y="5013360"/>
            <a:ext cx="3027600" cy="1655640"/>
          </a:xfrm>
          <a:prstGeom prst="wedgeRoundRectCallout">
            <a:avLst>
              <a:gd name="adj1" fmla="val -104430"/>
              <a:gd name="adj2" fmla="val 2638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4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4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para que continúe con su proceso formativ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9"/>
          <p:cNvSpPr/>
          <p:nvPr/>
        </p:nvSpPr>
        <p:spPr>
          <a:xfrm rot="20170200">
            <a:off x="1379160" y="522288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6645240" y="2060640"/>
            <a:ext cx="2498760" cy="7826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4356000" y="2133720"/>
            <a:ext cx="1629000" cy="1008000"/>
          </a:xfrm>
          <a:prstGeom prst="rightArrow">
            <a:avLst>
              <a:gd name="adj1" fmla="val 50000"/>
              <a:gd name="adj2" fmla="val 4040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143000" y="714240"/>
            <a:ext cx="1924200" cy="343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8115480" y="1019160"/>
            <a:ext cx="809280" cy="971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571680" y="1643040"/>
            <a:ext cx="1785600" cy="124308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610000" y="2124000"/>
            <a:ext cx="1714320" cy="552600"/>
          </a:xfrm>
          <a:prstGeom prst="rightArrow">
            <a:avLst>
              <a:gd name="adj1" fmla="val 50000"/>
              <a:gd name="adj2" fmla="val 7755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905360" y="2214720"/>
            <a:ext cx="2390760" cy="37620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857160" y="3476520"/>
            <a:ext cx="1838520" cy="125748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857680" y="2857680"/>
            <a:ext cx="2071440" cy="107604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RECOMENDAR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6143760" y="3571920"/>
            <a:ext cx="1238040" cy="11714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DIREC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4753080" y="3324240"/>
            <a:ext cx="2124000" cy="46656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067200" y="3962520"/>
            <a:ext cx="2819160" cy="60012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752560" y="5210280"/>
            <a:ext cx="2486160" cy="1590480"/>
          </a:xfrm>
          <a:prstGeom prst="wedgeEllipseCallout">
            <a:avLst>
              <a:gd name="adj1" fmla="val -78351"/>
              <a:gd name="adj2" fmla="val -78861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7715160" y="4357800"/>
            <a:ext cx="1200240" cy="676080"/>
          </a:xfrm>
          <a:prstGeom prst="borderCallout1">
            <a:avLst>
              <a:gd name="adj1" fmla="val 18750"/>
              <a:gd name="adj2" fmla="val -8333"/>
              <a:gd name="adj3" fmla="val -2814"/>
              <a:gd name="adj4" fmla="val -53810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353280" y="5429160"/>
            <a:ext cx="1762200" cy="80028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1143000" y="549360"/>
            <a:ext cx="1989000" cy="718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7885080" y="928800"/>
            <a:ext cx="1039680" cy="1204920"/>
          </a:xfrm>
          <a:prstGeom prst="can">
            <a:avLst>
              <a:gd name="adj" fmla="val 25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611280" y="1643040"/>
            <a:ext cx="1873080" cy="11527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2571840" y="2071800"/>
            <a:ext cx="1714320" cy="552240"/>
          </a:xfrm>
          <a:prstGeom prst="rightArrow">
            <a:avLst>
              <a:gd name="adj1" fmla="val 50000"/>
              <a:gd name="adj2" fmla="val 77608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4929120" y="228600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755640" y="3386160"/>
            <a:ext cx="1940040" cy="1257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2828880" y="3081240"/>
            <a:ext cx="2028960" cy="79056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497a"/>
                </a:solidFill>
                <a:latin typeface="Times New Roman"/>
              </a:rPr>
              <a:t>RECOMEN-DA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940360" y="3643200"/>
            <a:ext cx="1631880" cy="1171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DIRECTI-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4753080" y="3357720"/>
            <a:ext cx="2124000" cy="34272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3067200" y="3871800"/>
            <a:ext cx="2819160" cy="85248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5"/>
          <p:cNvSpPr/>
          <p:nvPr/>
        </p:nvSpPr>
        <p:spPr>
          <a:xfrm>
            <a:off x="2752560" y="4941720"/>
            <a:ext cx="2486160" cy="1768680"/>
          </a:xfrm>
          <a:prstGeom prst="wedgeEllipseCallout">
            <a:avLst>
              <a:gd name="adj1" fmla="val -78351"/>
              <a:gd name="adj2" fmla="val -65888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7740720" y="4286160"/>
            <a:ext cx="1174680" cy="943200"/>
          </a:xfrm>
          <a:prstGeom prst="borderCallout1">
            <a:avLst>
              <a:gd name="adj1" fmla="val 18750"/>
              <a:gd name="adj2" fmla="val -8333"/>
              <a:gd name="adj3" fmla="val -2018"/>
              <a:gd name="adj4" fmla="val -5716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6353280" y="5338800"/>
            <a:ext cx="1762200" cy="79992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26:34Z</dcterms:created>
  <dc:creator>Usuario</dc:creator>
  <dc:description/>
  <dc:language>en-US</dc:language>
  <cp:lastModifiedBy>lgutierrezr</cp:lastModifiedBy>
  <dcterms:modified xsi:type="dcterms:W3CDTF">2010-04-04T13:18:43Z</dcterms:modified>
  <cp:revision>18</cp:revision>
  <dc:subject/>
  <dc:title>Diapositiva 1</dc:title>
</cp:coreProperties>
</file>